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742F8-84D5-4A40-BA8F-DCC4D5F39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3C10E-1F2A-4E82-97D2-DEEA09223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B5BC-9B68-48E3-A5B1-772C74BD1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28BC-1795-40E2-AF1F-94030DD71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D4D0-2B40-48BD-BC95-E74C575A2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22D5-D271-4559-AA84-DE168A735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ECF03-C9D4-44BF-BBB5-A05EC836C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0A274-D85B-4890-A0BF-DDCA786F2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00E98-3DFA-4958-900B-CEDEAE13B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4362F-E585-40A0-A3A5-9FBA78B3B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9CD8D-82AE-4282-995B-AEA7C3D0C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D157A-CAFA-4145-BA43-EC56DD0B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C20EE-D5DC-4EEB-98E0-3911D10A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7F26-EF39-48F5-9C32-DAD607DFA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9F974-0E18-4EEE-AECD-356724D3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6B7C0-97A1-4EE2-B507-E70D797E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331A5-6FCB-460B-8D00-6494CD206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2DE62-D9D0-4332-9DF5-31DE200A0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A2E6A-655D-4E1C-9E10-B82275A89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687E-EFDA-4D97-BFD9-6B2EA62AF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372E-D8F7-4A53-AB0E-B9BAAE090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1123-48E3-471E-869B-E0A7446EE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86E0-B4CD-4208-ABE7-10F8ADE6C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F278-5B9E-48AC-B0D0-4980E947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2A4F-143A-48BE-AE65-B1575F56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5CE5-CF12-404C-98E5-BF8EE9C3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EEFEC-3572-4959-A971-E40C0B25092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50B66-7B8E-4B8B-B516-13A7207FCFC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4200" y="1285560"/>
            <a:ext cx="727416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0066"/>
                </a:solidFill>
                <a:latin typeface="Arial"/>
              </a:rPr>
              <a:t>МИНИСТЕРСТВО СПОРТА РОССИЙСКОЙ ФЕДЕРАЦИИ </a:t>
            </a:r>
            <a:br>
              <a:rPr sz="1200"/>
            </a:br>
            <a:r>
              <a:rPr b="1" i="1" lang="ru-RU" sz="1200" spc="-1" strike="noStrike">
                <a:solidFill>
                  <a:srgbClr val="330066"/>
                </a:solidFill>
                <a:latin typeface="Arial"/>
              </a:rPr>
              <a:t>ФГУ "ЦСП СБОРНЫХ КОМАНД РОССИИ" </a:t>
            </a:r>
            <a:br>
              <a:rPr sz="1200"/>
            </a:br>
            <a:r>
              <a:rPr b="1" i="1" lang="ru-RU" sz="1200" spc="-1" strike="noStrike">
                <a:solidFill>
                  <a:srgbClr val="330066"/>
                </a:solidFill>
                <a:latin typeface="Arial"/>
              </a:rPr>
              <a:t>ВСЕРОССИЙСКАЯ ФЕДЕРАЦИЯ ЛЕГКОЙ АТЛЕТИКИ </a:t>
            </a:r>
            <a:br>
              <a:rPr sz="1200"/>
            </a:br>
            <a:r>
              <a:rPr b="1" i="1" lang="ru-RU" sz="1200" spc="-1" strike="noStrike">
                <a:solidFill>
                  <a:srgbClr val="330066"/>
                </a:solidFill>
                <a:latin typeface="Arial"/>
              </a:rPr>
              <a:t>ФГУП "ЮЖНЫЙ ФЕДЕРАЛЬНЫЙ ЦЕНТР СПОРТИВНОЙ ПОДГОТОВКИ" (ФГУП "ЮГ СПОРТ") </a:t>
            </a:r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50560" y="3049560"/>
            <a:ext cx="7057800" cy="35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Командный чемпионат России по легкой атлети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5-26.05.2017 г.                    г. Сочи ст. ФГУП «ЮГ СПОРТ»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. Адлер ст. «Юность»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7543800" cy="164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330066"/>
                </a:solidFill>
                <a:latin typeface="Arial"/>
              </a:rPr>
              <a:t>Командный чемпионат России по легкой атлетике</a:t>
            </a:r>
            <a:br>
              <a:rPr sz="1600"/>
            </a:br>
            <a:br>
              <a:rPr sz="1600"/>
            </a:b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25-26.05.2017 г.                    г. Сочи ст. ФГУП «ЮГ СПОРТ» </a:t>
            </a:r>
            <a:br>
              <a:rPr sz="1400"/>
            </a:b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                             г. Адлер ст. «Юность» </a:t>
            </a:r>
            <a:br>
              <a:rPr sz="1600"/>
            </a:br>
            <a:br>
              <a:rPr sz="1600"/>
            </a:br>
            <a:endParaRPr b="1" lang="en-US" sz="14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11280" y="1557360"/>
          <a:ext cx="7377120" cy="4243320"/>
        </p:xfrm>
        <a:graphic>
          <a:graphicData uri="http://schemas.openxmlformats.org/drawingml/2006/table">
            <a:tbl>
              <a:tblPr/>
              <a:tblGrid>
                <a:gridCol w="2232000"/>
                <a:gridCol w="2152440"/>
                <a:gridCol w="1044720"/>
                <a:gridCol w="1947960"/>
              </a:tblGrid>
              <a:tr h="289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ректор соревнов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стантин Трубочк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С1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ск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хделегат ВФ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талий Слепченк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тов-на -Дон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авный суд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тр Безъязыч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снодар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1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м. главного судь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ргей Ко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ладими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3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авный секрета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лена Клочк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лгогр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м. главного секретар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славская Мар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С1К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т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7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хнический менедж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миль Па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у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7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м. главного судь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айяр Айнетди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ск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м. главного судь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талья Шуб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7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м. главного судь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алентина Слепченк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тов-на-Дон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м. главного судь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тонина Кабар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С1К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тайс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авный суд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ректор соревнов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.Ф. Безъязыч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.В. Трубочк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05:41:56Z</dcterms:created>
  <dc:creator>Wl</dc:creator>
  <dc:description/>
  <dc:language>en-US</dc:language>
  <cp:lastModifiedBy>SONY</cp:lastModifiedBy>
  <cp:lastPrinted>2017-05-25T16:35:25Z</cp:lastPrinted>
  <dcterms:modified xsi:type="dcterms:W3CDTF">2017-05-25T17:24:41Z</dcterms:modified>
  <cp:revision>49</cp:revision>
  <dc:subject/>
  <dc:title>ДЕПАРТАМЕНТ ПО ФИЗИЧЕСКОЙ КУЛЬТУРЕ И СПОРТУ  КРАСНОДАРСКОГО КРАЯ ФЕДЕРАЦИЯ ЛЕГКОЙ АТЛЕТИКИ КРАСНОДАРСКОГО КРАЯ КУБАНСКИЙ ГОСУДАРСТВЕННЫЙ УНИВЕРСИТЕТ ФИЗИЧЕСКОЙ КУЛЬТУРЫ, СПОРТА И ТУРИЗМА КАФЕДРА ТЕОРИИ И МЕТОДИКИ ЛЕГКОЙ АТЛЕТИКИ   СПОРТИВНЫЙ КЛУБ  КГУФКС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